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34B-D3C9-4CEB-AB54-E141023A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D9E-1823-42CD-9F4C-A718EA4C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B29-40E0-4DA1-8398-EDF4BA6C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3FF-BCAA-4C7D-8E58-48264E4D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2FC2-5FA6-446E-96C4-2BEB0B25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6A7-C6FF-4BB5-AEC5-3726A728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5B27-8495-4256-BD38-5110A45A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7C0-2771-4D19-9767-3E4E84C3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89D-0C98-47F7-AB83-BA2AB0DD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4B7-243A-408E-8CEA-1BA8AC2C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9DC-FC0F-4E87-A1C3-AE9C43D8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8D8-4D8A-4F71-A5B6-ACDCB5AF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FB71-FE6E-44B2-8FC6-4492AC984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e22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579096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ngible and Intangible Ri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133720"/>
            <a:ext cx="2590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gible ri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wing F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0" y="2209680"/>
            <a:ext cx="19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angible Ri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th of spi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pp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78408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71600" y="35812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038480" y="3048120"/>
            <a:ext cx="2171880" cy="1847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562720" y="4830840"/>
            <a:ext cx="20127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0:32:21Z</dcterms:created>
  <dc:creator>Ken Robinson</dc:creator>
  <dc:description/>
  <dc:language>en-US</dc:language>
  <cp:lastModifiedBy>Ken Robinson</cp:lastModifiedBy>
  <dcterms:modified xsi:type="dcterms:W3CDTF">2011-11-30T00:45:10Z</dcterms:modified>
  <cp:revision>3</cp:revision>
  <dc:subject/>
  <dc:title>Tangible and Intangible Riches</dc:title>
</cp:coreProperties>
</file>